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9AF-8C0C-468D-8C9A-50EE6018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332-65AB-407D-AF09-489ADCAA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EF6-BCC6-4770-91D7-6437F3D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B9D-4782-470E-88E5-BB815FC1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A8A-6F79-4A2F-9A40-7DA7D2A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2C7-466C-4D37-8C34-C057097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030-F945-4B92-B09B-7655895F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E37-B8A6-41A9-B4AE-8A2D5C25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EC6-ED89-46DC-B6E3-6484CAD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040-81DD-4C9B-8E99-53352FE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C15-8938-479E-912B-D57927E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741-258B-48A9-A63E-09868B9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678-7564-4335-9266-D4866DC37FD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9/DOP/1.2.1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Prepojenie stredoškolského vzdelávania s praxou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11,20 EUR/1 hodina/pedagogický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. 3 hodi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 – v elektronickej forme sa preto posielajú na OIP, ktorý zabezpečí ich zverejnen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Uzatvorenie pracovného pomeru – pracovný pomer 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/ dohoda o práci vykonávanej mimo pracovného pome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558ed5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ávisí od ekonomickej klasifikácie stanovenej v rozpočte projektu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10620 – pracovná zmlu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37027 + 610620 – dohoda o pracovnej činnosti/dohoda o vykonaní prá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atutárny zástupca školy/organizácie – projektový manažé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rozšírenie pracovnej náplne – nakoľko ide pri pracovnej pozícii projektový manažér o rovnak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. V uvedenom prípade nie je možná žiadna dohoda o práci vykonávaná mimo pracovného pomeru</a:t>
            </a: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o všeobecnosti platí, že rozšírenie pracovnej náplne je možné len v tom prípade, ak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ykonáva rovnaký druh práce v pracovnom pomere aj práce pre projekt. V prípade, ak ide o in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, zamestnávateľ môže so zamestnancom dohodnúť niekoľko pracovných pomer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Výpočet oprávnenej mzdy pri rozšírenej pracovnej nápl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efundácia časti mzdy zamestnanca, pri ktorej nie sú oprávnené všetky zložky mzdy, napr. dovolenka, PN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OČR apod. Oprávnený rozsah práce len podľa skutočne odpracovaných hodín pre projek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4.      Aký druh pracovného pomeru uzavrieť s pedagogickým zamestnancom pri kluboch učiteľ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ŠSJN, kde SO/OIP neoveruje výšku skutočnej mzdy vyplatenej účastníkom klubu. ŠSJN je hrad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škole na úhradu výdavkov, ktoré súvisia s klubovou činnosťo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5.      Aký druh pracovného pomeru uzavrieť s pedagogickým zamestnancom pri extra hodiná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ten istý druh práce – pedagogickú činnosť, rozšírenie pracovného  úväzku o extra hodin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6.     Jednotková cena stanovená v rozpočte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Jednotková cena stanovená v rozpočte projektu pri každej rozpočtovej položke je maximálna a mus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byť primeraná jednotkovej cene v organizácii. Z uvedeného dôvodu dochádza ku kráteniu mzdy aj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ípade, ak jednotková cena stanovená v rozpočte projektu nebola prekroče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7.   Zastupovanie extra hodí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astupovanie učiteľa extra hodín je možná, pričom zastupujúci učiteľ musí mať aprobáciu na predmet, 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ktorý sa extra hodiny realizujú. Prijímateľ opätovne pri zastupujúcom učiteľovi predkladá platnú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acovnú zmluv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8.    Môže pedagogický zamestnanec vykonávať pracovné pozície patriace do koordinácie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Áno, ak príslušný zamestnanec spĺňa predpísané kvalifikačné požiadavky. S  pedagogickým zamestnan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usí  však škola uzavrieť nový pracovný pomer formou pracovnej zmluvy/dohody o prácach vykonávaný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imo pracovného pomeru. Na rozšírenie pracovnej zmluvy uvedené činnosti nie je možné vykonáva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nakoľko ide o iný druh práce ako je pedagogická činnosť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4173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ame výdavky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)  Personálne výdavky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výdavky  vzniknuté na základe pracovnoprávnych vzťahov alebo obdob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zťahov (napr. zákonník práce, zákon o štátnej službe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koordinač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odbor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  školiaci materiá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) nákup hmotného a nehmotného majet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d) cestovné náhrad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)  dodávky na priame personálne výdavky – odborné aktiv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) odpis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g) monito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h) riziková priráž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Nepriame výdavky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aušálna sadzba – slúži na úhradu bežných výdavkov (prevádzková réžia) a  na financovanie podpor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ivít projekt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epriame výdavky sa uplatňujú ako 15% paušálna sadzba z priamych personálnych výdavkov. V každej žiadosti o platbu obsahujúcej priame personálne výdavky, môžu byť nároková 15% paušálna sadzba na nepriame výdavk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riamymi personálnymi výdavkami sú interné personálne výdavky (t.j. ekon. klasifikácia 610620 – pracovný pomer; ekon. klasifikácia 637027 – dohody zamestnancov mimo pracovného pomeru a    k nim súvisiace/prislúchajúce odvody – ekon. klasifikácia 610620 resp. zo skupiny výdavkov 521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3.   Zjednodušené vykazovanie výdavkov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 štandardná stupnica jednotkových nákladov „hodinová sadzba učiteľa podľa kategórie škôl (ZŠ,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Š)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výšené hodiny strávené vzdelávacími aktivitami“– „extra hodiny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štandardná stupnica jednotkových nákladov „pedagogické kluby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pre učiteľa SŠ 13, 2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ozsah extra hodín na školu a školský rok je stanovený max. = 33 hodín týždenne (45 minútový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 relevantné, dokumenty preukazujúce výšku školného plateného rodičmi pred a počas realizácie projektu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I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 školy vyučujúceho extra hodiny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21-01-22T12:09:22Z</dcterms:modified>
  <cp:revision>198</cp:revision>
  <dc:subject/>
  <dc:title>Snímka 1</dc:title>
</cp:coreProperties>
</file>